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1.png" ContentType="image/png"/>
  <Override PartName="/ppt/media/image19.gif" ContentType="image/gif"/>
  <Override PartName="/ppt/media/image10.png" ContentType="image/png"/>
  <Override PartName="/ppt/media/image8.pct" ContentType="image/x-pict"/>
  <Override PartName="/ppt/media/image13.gif" ContentType="image/gif"/>
  <Override PartName="/ppt/media/image9.pct" ContentType="image/x-pict"/>
  <Override PartName="/ppt/media/image7.gif" ContentType="image/gif"/>
  <Override PartName="/ppt/media/image21.png" ContentType="image/png"/>
  <Override PartName="/ppt/media/image4.png" ContentType="image/png"/>
  <Override PartName="/ppt/media/image18.pct" ContentType="image/x-pict"/>
  <Override PartName="/ppt/media/image3.png" ContentType="image/png"/>
  <Override PartName="/ppt/media/image17.png" ContentType="image/png"/>
  <Override PartName="/ppt/media/image16.pct" ContentType="image/x-pict"/>
  <Override PartName="/ppt/media/image20.png" ContentType="image/png"/>
  <Override PartName="/ppt/media/image15.gif" ContentType="image/gif"/>
  <Override PartName="/ppt/media/image2.png" ContentType="image/png"/>
  <Override PartName="/ppt/media/image14.jpeg" ContentType="image/jpeg"/>
  <Override PartName="/ppt/media/image5.gif" ContentType="image/gif"/>
  <Override PartName="/ppt/media/image11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B37-A5EF-48F7-BC2E-50400131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007-AD2C-4223-9002-20EFBF95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A16-7B04-4112-91D5-19E7C27A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3E0-685B-43A3-B042-B33835A3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A2E6-B90A-4F9E-876D-20DE0FEB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0A66-3E83-46CC-B23D-97EFF9AD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7378-4B12-43E1-9BD2-407D29E3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F221-0E22-4934-92A5-D800919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FFA2-FCFC-4938-8E71-C8A8F158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06D9-22B4-4505-9B7E-767336CC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8F21-41C3-40BF-B0AA-42F788E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0F0-B593-4098-97F2-4974406D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AA1C-F974-4AD5-8487-5609D0F7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E9F2-4262-4B7C-ABB8-59529EA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6AA4-C278-4E55-83E6-77A01E09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7846-4517-45E7-AAB0-45E3021F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856F-06B9-43F9-8562-FD3FC462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D7B-7120-4DDB-A980-D360E7CA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F2A-7F44-4BCB-941B-2F6CE94C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1A1-F2E9-4AE7-81C9-5DEF7F32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604B-DD6B-461C-9562-FC6D4A74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FF4-50A8-4F01-9A0D-23EA467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B44-1ADC-44EA-86E1-1E4C0A6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7E5-C8EB-418C-9E89-62765E96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9993-DBA7-49BA-A112-84FCB100A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56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6711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7d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c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53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8817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9f0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7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990000"/>
                </a:gs>
                <a:gs pos="100000">
                  <a:srgbClr val="a217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0f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5f10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8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5d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a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6b1200"/>
                </a:gs>
                <a:gs pos="100000">
                  <a:srgbClr val="88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8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790000"/>
                </a:gs>
                <a:gs pos="100000">
                  <a:srgbClr val="99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f0000"/>
                  </a:gs>
                  <a:gs pos="100000">
                    <a:srgbClr val="9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0000"/>
                  </a:gs>
                  <a:gs pos="100000">
                    <a:srgbClr val="a21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af9e6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dc7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9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9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af9e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D2B7-526F-4788-AF98-E2DCF7B0A2FA}" type="slidenum">
              <a:rPr b="0" lang="en-US" sz="1200" spc="-1" strike="noStrike">
                <a:solidFill>
                  <a:srgbClr val="faf9e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ct"/><Relationship Id="rId5" Type="http://schemas.openxmlformats.org/officeDocument/2006/relationships/image" Target="../media/image9.pct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ct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ct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0" y="685800"/>
            <a:ext cx="838188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Count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formation: The Catholic Chur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ghts Bac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24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914400" y="914400"/>
            <a:ext cx="7391520" cy="55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oals of Catholics in response to Luther and the Reformation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: 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1</a:t>
            </a:r>
            <a:r>
              <a:rPr b="1" lang="en-US" sz="3600" spc="-1" strike="noStrike" baseline="30000">
                <a:solidFill>
                  <a:srgbClr val="ccccff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: </a:t>
            </a: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</a:rPr>
              <a:t>Stop Protestantism (Lutheranism) from spreading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ccccff"/>
                </a:solidFill>
                <a:latin typeface="Arial"/>
              </a:rPr>
              <a:t>nd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:</a:t>
            </a: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</a:rPr>
              <a:t> Fix the corruptions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</a:rPr>
              <a:t>3</a:t>
            </a:r>
            <a:r>
              <a:rPr b="1" lang="en-US" sz="3600" spc="-1" strike="noStrike" u="sng" baseline="30000">
                <a:solidFill>
                  <a:srgbClr val="ccccff"/>
                </a:solidFill>
                <a:uFillTx/>
                <a:latin typeface="Arial"/>
              </a:rPr>
              <a:t>rd</a:t>
            </a:r>
            <a:r>
              <a:rPr b="1" lang="en-US" sz="3600" spc="-1" strike="noStrike" u="sng">
                <a:solidFill>
                  <a:srgbClr val="ccccff"/>
                </a:solidFill>
                <a:uFillTx/>
                <a:latin typeface="Arial"/>
              </a:rPr>
              <a:t>: Spread Catholicism 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af9e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ccccff"/>
                </a:solidFill>
                <a:latin typeface="Arial"/>
              </a:rPr>
              <a:t>This became known as the Counter Reformation.</a:t>
            </a:r>
            <a:r>
              <a:rPr b="1" i="1" lang="en-US" sz="32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dc78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3352680" y="3276720"/>
            <a:ext cx="2227320" cy="26478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1752480" y="1143000"/>
            <a:ext cx="555336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Impact"/>
              </a:rPr>
              <a:t>But how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Impact"/>
              <a:ea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304920" y="304920"/>
            <a:ext cx="83818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st Goal: Stopping Protestantism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505320" y="1752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nquisition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57200" y="25146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= Catholic Court that judged heretic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52280" y="32767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Punishment = Jail, exile, burned at the stake</a:t>
            </a:r>
            <a:r>
              <a:rPr b="1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1066680" y="2362320"/>
            <a:ext cx="7239240" cy="0"/>
          </a:xfrm>
          <a:prstGeom prst="line">
            <a:avLst/>
          </a:prstGeom>
          <a:ln w="57240">
            <a:solidFill>
              <a:srgbClr val="faf9e6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74" name="Picture 8" descr="j0283600"/>
          <p:cNvPicPr/>
          <p:nvPr/>
        </p:nvPicPr>
        <p:blipFill>
          <a:blip r:embed="rId3"/>
          <a:stretch/>
        </p:blipFill>
        <p:spPr>
          <a:xfrm>
            <a:off x="4648320" y="4800600"/>
            <a:ext cx="1360440" cy="1380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j0287179"/>
          <p:cNvPicPr/>
          <p:nvPr/>
        </p:nvPicPr>
        <p:blipFill>
          <a:blip r:embed="rId4"/>
          <a:stretch/>
        </p:blipFill>
        <p:spPr>
          <a:xfrm>
            <a:off x="0" y="4302000"/>
            <a:ext cx="3602160" cy="2556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j0287500"/>
          <p:cNvPicPr/>
          <p:nvPr/>
        </p:nvPicPr>
        <p:blipFill>
          <a:blip r:embed="rId5"/>
          <a:stretch/>
        </p:blipFill>
        <p:spPr>
          <a:xfrm>
            <a:off x="7034040" y="3962520"/>
            <a:ext cx="2109960" cy="2895480"/>
          </a:xfrm>
          <a:prstGeom prst="rect">
            <a:avLst/>
          </a:prstGeom>
          <a:ln w="0">
            <a:noFill/>
          </a:ln>
        </p:spPr>
      </p:pic>
      <p:sp>
        <p:nvSpPr>
          <p:cNvPr id="177" name="Line 13"/>
          <p:cNvSpPr/>
          <p:nvPr/>
        </p:nvSpPr>
        <p:spPr>
          <a:xfrm>
            <a:off x="3581280" y="5791320"/>
            <a:ext cx="91440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019920" y="5791320"/>
            <a:ext cx="91440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79" name="Picture 15" descr=""/>
          <p:cNvPicPr/>
          <p:nvPr/>
        </p:nvPicPr>
        <p:blipFill>
          <a:blip r:embed="rId6"/>
          <a:stretch/>
        </p:blipFill>
        <p:spPr>
          <a:xfrm>
            <a:off x="7848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813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30492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st Goal: Stopping Protestantism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905120" y="16765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ndex of Prohibited Book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24382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Banned books that Catholics shouldn’t read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52280" y="3505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uch as Protestant Bibles and science book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990720" y="2362320"/>
            <a:ext cx="7315200" cy="0"/>
          </a:xfrm>
          <a:prstGeom prst="line">
            <a:avLst/>
          </a:prstGeom>
          <a:ln w="57240">
            <a:solidFill>
              <a:srgbClr val="faf9e6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grpSp>
        <p:nvGrpSpPr>
          <p:cNvPr id="185" name="Group 16"/>
          <p:cNvGrpSpPr/>
          <p:nvPr/>
        </p:nvGrpSpPr>
        <p:grpSpPr>
          <a:xfrm>
            <a:off x="1523880" y="4038480"/>
            <a:ext cx="6324840" cy="2590920"/>
            <a:chOff x="1523880" y="4038480"/>
            <a:chExt cx="6324840" cy="2590920"/>
          </a:xfrm>
        </p:grpSpPr>
        <p:pic>
          <p:nvPicPr>
            <p:cNvPr id="186" name="Picture 8" descr="j0293938"/>
            <p:cNvPicPr/>
            <p:nvPr/>
          </p:nvPicPr>
          <p:blipFill>
            <a:blip r:embed="rId3"/>
            <a:stretch/>
          </p:blipFill>
          <p:spPr>
            <a:xfrm rot="19605000">
              <a:off x="2185920" y="4367160"/>
              <a:ext cx="171288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0" descr="j0233970"/>
            <p:cNvPicPr/>
            <p:nvPr/>
          </p:nvPicPr>
          <p:blipFill>
            <a:blip r:embed="rId4"/>
            <a:stretch/>
          </p:blipFill>
          <p:spPr>
            <a:xfrm>
              <a:off x="5257800" y="4267080"/>
              <a:ext cx="2082960" cy="191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Oval 11"/>
            <p:cNvSpPr/>
            <p:nvPr/>
          </p:nvSpPr>
          <p:spPr>
            <a:xfrm>
              <a:off x="1523880" y="4114800"/>
              <a:ext cx="3048120" cy="2514600"/>
            </a:xfrm>
            <a:prstGeom prst="ellipse">
              <a:avLst/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2362320" y="4952880"/>
              <a:ext cx="1143000" cy="368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utheran</a:t>
              </a:r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0" name="Oval 13"/>
            <p:cNvSpPr/>
            <p:nvPr/>
          </p:nvSpPr>
          <p:spPr>
            <a:xfrm>
              <a:off x="4800600" y="4038480"/>
              <a:ext cx="3048120" cy="2514600"/>
            </a:xfrm>
            <a:prstGeom prst="ellipse">
              <a:avLst/>
            </a:prstGeom>
            <a:noFill/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1981080" y="4495680"/>
              <a:ext cx="2210040" cy="17528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5181480" y="4495680"/>
              <a:ext cx="2210040" cy="175284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af9e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54643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228600" y="304920"/>
            <a:ext cx="8610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2nd Goal: Fixing the Corrup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895480" y="19051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Pope Paul III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7432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eader of Counter Reformation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90720" y="3276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Documented most corruption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990720" y="38862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Called for “Council of Trent”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1143000" y="2590920"/>
            <a:ext cx="7010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199" name="Picture 9" descr="j0283618"/>
          <p:cNvPicPr/>
          <p:nvPr/>
        </p:nvPicPr>
        <p:blipFill>
          <a:blip r:embed="rId1"/>
          <a:stretch/>
        </p:blipFill>
        <p:spPr>
          <a:xfrm>
            <a:off x="6858000" y="4786200"/>
            <a:ext cx="1979640" cy="20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Paul III"/>
          <p:cNvPicPr/>
          <p:nvPr/>
        </p:nvPicPr>
        <p:blipFill>
          <a:blip r:embed="rId2"/>
          <a:stretch/>
        </p:blipFill>
        <p:spPr>
          <a:xfrm>
            <a:off x="533520" y="447660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5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54643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2"/>
          <p:cNvSpPr txBox="1"/>
          <p:nvPr/>
        </p:nvSpPr>
        <p:spPr>
          <a:xfrm>
            <a:off x="990720" y="380880"/>
            <a:ext cx="76197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2nd Goal: Fixing the Corrup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743200" y="19051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uncil of Trent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523880" y="27432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Laid out Catholic belief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523880" y="3505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topped corruption and kicked out bad clergy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76520" y="44956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trict rules and training for new priest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1219320" y="2590920"/>
            <a:ext cx="6858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207" name="Picture 11" descr="j0205395"/>
          <p:cNvPicPr/>
          <p:nvPr/>
        </p:nvPicPr>
        <p:blipFill>
          <a:blip r:embed="rId1"/>
          <a:stretch/>
        </p:blipFill>
        <p:spPr>
          <a:xfrm>
            <a:off x="0" y="4952880"/>
            <a:ext cx="1884240" cy="1905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j0188683"/>
          <p:cNvPicPr/>
          <p:nvPr/>
        </p:nvPicPr>
        <p:blipFill>
          <a:blip r:embed="rId2"/>
          <a:stretch/>
        </p:blipFill>
        <p:spPr>
          <a:xfrm>
            <a:off x="5562720" y="5105520"/>
            <a:ext cx="1827000" cy="1373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5"/>
          <p:cNvSpPr/>
          <p:nvPr/>
        </p:nvSpPr>
        <p:spPr>
          <a:xfrm>
            <a:off x="7467480" y="5410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ntique Olive"/>
              </a:rPr>
              <a:t>Corruption and Problems</a:t>
            </a:r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210" name="Picture 22" descr=""/>
          <p:cNvPicPr/>
          <p:nvPr/>
        </p:nvPicPr>
        <p:blipFill>
          <a:blip r:embed="rId3"/>
          <a:stretch/>
        </p:blipFill>
        <p:spPr>
          <a:xfrm>
            <a:off x="88390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085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2"/>
          <p:cNvSpPr txBox="1"/>
          <p:nvPr/>
        </p:nvSpPr>
        <p:spPr>
          <a:xfrm>
            <a:off x="457200" y="304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3rd Goal: Spreading Catholicism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523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Jesuits (led by Ignatius Loyola)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219320" y="25146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Disciplined group of Priests / missionaries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143000" y="3657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Spread Catholicism to Americas, Asia, Africa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600200" y="48006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ccff"/>
                </a:solidFill>
                <a:latin typeface="Arial"/>
              </a:rPr>
              <a:t>Change Germany back to Catholicism (worked for ½) </a:t>
            </a:r>
            <a:endParaRPr b="0" lang="en-US" sz="32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1066680" y="2362320"/>
            <a:ext cx="7239240" cy="0"/>
          </a:xfrm>
          <a:prstGeom prst="line">
            <a:avLst/>
          </a:prstGeom>
          <a:ln w="57240">
            <a:solidFill>
              <a:srgbClr val="faf9e6"/>
            </a:solidFill>
            <a:miter/>
            <a:headEnd len="med" type="diamond" w="sm"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af9e6"/>
              </a:solidFill>
              <a:latin typeface="Arial"/>
            </a:endParaRPr>
          </a:p>
        </p:txBody>
      </p:sp>
      <p:pic>
        <p:nvPicPr>
          <p:cNvPr id="217" name="Picture 9" descr="j0197796"/>
          <p:cNvPicPr/>
          <p:nvPr/>
        </p:nvPicPr>
        <p:blipFill>
          <a:blip r:embed="rId3"/>
          <a:stretch/>
        </p:blipFill>
        <p:spPr>
          <a:xfrm>
            <a:off x="7807320" y="3745080"/>
            <a:ext cx="1336680" cy="3112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j0213508"/>
          <p:cNvPicPr/>
          <p:nvPr/>
        </p:nvPicPr>
        <p:blipFill>
          <a:blip r:embed="rId4"/>
          <a:stretch/>
        </p:blipFill>
        <p:spPr>
          <a:xfrm>
            <a:off x="0" y="4572000"/>
            <a:ext cx="174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0000"/>
            </a:gs>
            <a:gs pos="100000">
              <a:srgbClr val="99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rel_pie"/>
          <p:cNvPicPr/>
          <p:nvPr/>
        </p:nvPicPr>
        <p:blipFill>
          <a:blip r:embed="rId1"/>
          <a:stretch/>
        </p:blipFill>
        <p:spPr>
          <a:xfrm>
            <a:off x="3276720" y="1406520"/>
            <a:ext cx="5867280" cy="54514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228600" y="1600200"/>
            <a:ext cx="2438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9e6"/>
                </a:solidFill>
                <a:latin typeface="Arial"/>
              </a:rPr>
              <a:t>If Catholics were seperated from Protestants, Catholics = 17%, Protestants = 8%  </a:t>
            </a:r>
            <a:endParaRPr b="0" lang="en-US" sz="2800" spc="-1" strike="noStrike">
              <a:solidFill>
                <a:srgbClr val="faf9e6"/>
              </a:solidFill>
              <a:latin typeface="Arial"/>
            </a:endParaRPr>
          </a:p>
        </p:txBody>
      </p:sp>
      <p:sp>
        <p:nvSpPr>
          <p:cNvPr id="221" name="WordArt 7"/>
          <p:cNvSpPr txBox="1"/>
          <p:nvPr/>
        </p:nvSpPr>
        <p:spPr>
          <a:xfrm>
            <a:off x="762120" y="228600"/>
            <a:ext cx="72388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rlow Solid Italic"/>
              </a:rPr>
              <a:t>World Religions 2008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02:09:10Z</dcterms:created>
  <dc:creator>VLC</dc:creator>
  <dc:description/>
  <dc:language>en-US</dc:language>
  <cp:lastModifiedBy>San Diego City Schools</cp:lastModifiedBy>
  <dcterms:modified xsi:type="dcterms:W3CDTF">2013-05-10T15:00:58Z</dcterms:modified>
  <cp:revision>57</cp:revision>
  <dc:subject/>
  <dc:title>Slide 1</dc:title>
</cp:coreProperties>
</file>